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move the slid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DD15-3D71-47FA-9365-8A60AB161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EF30-C51D-4D04-A91A-DC4781307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636D-00FE-4042-9AEB-2A11F5BF7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6610-5199-448E-A141-99F51D850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4EE0-BE13-4AA7-A4EA-EE88E822E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CC81-C7B1-42EE-AC99-E82689B81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0A96-2A01-4516-8A00-3B16A7A9C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2C8C-4753-499B-AFD6-D2B6DB95B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5320" y="4457520"/>
            <a:ext cx="55706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082E-A573-47D8-828E-37D44AA4D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5320" y="4457520"/>
            <a:ext cx="55706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B5086-056B-457F-B271-297FB64FFD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8E1EF-53A4-480A-BF98-53FBA7E2E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96657-B052-4BD0-A5E3-F37B93A06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448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180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448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180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D21CA-B5E0-43B7-B013-C26418575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967C1-146C-4402-BBCF-9A4B1459D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48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80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716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48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80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A42E2-2976-4D51-8796-4CBF86F45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7446C-D87B-4833-BFC3-C75561A6B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2FF7E-0000-4855-80B1-352111F95A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BC71D-F232-4914-B39D-C55F8D58C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9C17C-75B5-4543-A8BC-25690DBA8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6CA9B-1B80-4E9A-8222-6BAB4E258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D4F4B-FD9D-4BFB-9B7C-1FDD56595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Click to edit the outline text format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1" marL="743040" indent="-28584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econd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2" marL="11430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Third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3" marL="16002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Four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4" marL="20574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Fif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ix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even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edit the title text format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162560" y="65527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"/>
          <p:cNvSpPr/>
          <p:nvPr/>
        </p:nvSpPr>
        <p:spPr>
          <a:xfrm>
            <a:off x="4572000" y="6629400"/>
            <a:ext cx="4572000" cy="1440"/>
          </a:xfrm>
          <a:prstGeom prst="line">
            <a:avLst/>
          </a:prstGeom>
          <a:ln w="6480">
            <a:solidFill>
              <a:srgbClr val="b2b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"/>
          <p:cNvSpPr/>
          <p:nvPr/>
        </p:nvSpPr>
        <p:spPr>
          <a:xfrm>
            <a:off x="4572000" y="6553080"/>
            <a:ext cx="0" cy="152640"/>
          </a:xfrm>
          <a:prstGeom prst="line">
            <a:avLst/>
          </a:prstGeom>
          <a:ln w="6480">
            <a:solidFill>
              <a:srgbClr val="b2b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3200400" y="6498720"/>
            <a:ext cx="13716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32EB-AE7E-4E0B-824A-D2003467773E}" type="slidenum"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"/>
          <p:cNvSpPr/>
          <p:nvPr/>
        </p:nvSpPr>
        <p:spPr>
          <a:xfrm>
            <a:off x="39574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" name=""/>
          <p:cNvSpPr/>
          <p:nvPr/>
        </p:nvSpPr>
        <p:spPr>
          <a:xfrm>
            <a:off x="1297440" y="6546960"/>
            <a:ext cx="148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CG Omega"/>
              </a:rPr>
              <a:t>- Confidential -</a:t>
            </a: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223920" y="5638680"/>
            <a:ext cx="69048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6781680"/>
            <a:ext cx="8991720" cy="7632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781680"/>
            <a:ext cx="1752480" cy="7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0"/>
            <a:ext cx="7391520" cy="15228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175248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1109880" cy="1219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781680" y="16002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696080" y="357120"/>
            <a:ext cx="1218960" cy="1244160"/>
            <a:chOff x="7696080" y="357120"/>
            <a:chExt cx="1218960" cy="12441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783200" y="357120"/>
              <a:ext cx="1059480" cy="83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696080" y="1202760"/>
              <a:ext cx="1218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Helvetica 65 Medium"/>
                </a:rPr>
                <a:t>Integration is </a:t>
              </a:r>
              <a:endParaRPr b="0" lang="en-US" sz="1000" spc="-1" strike="noStrike">
                <a:solidFill>
                  <a:srgbClr val="000000"/>
                </a:solidFill>
                <a:latin typeface="CG Omeg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Helvetica 65 Medium"/>
                </a:rPr>
                <a:t>Our Business</a:t>
              </a:r>
              <a:endParaRPr b="0" lang="en-US" sz="10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edit the title text format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Click to edit the outline text format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CG Omega"/>
              </a:rPr>
              <a:t>Second Outline Level</a:t>
            </a:r>
            <a:endParaRPr b="0" lang="en-US" sz="2600" spc="-1" strike="noStrike">
              <a:solidFill>
                <a:srgbClr val="808080"/>
              </a:solidFill>
              <a:latin typeface="CG Omega"/>
            </a:endParaRPr>
          </a:p>
          <a:p>
            <a:pPr lvl="2" marL="914400" algn="ctr">
              <a:spcBef>
                <a:spcPts val="575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Third Outline Level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SzPct val="85000"/>
              <a:buFont typeface="CG Omeg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256212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9121"/>
                </a:solidFill>
                <a:latin typeface="CG Omega"/>
              </a:rPr>
              <a:t>MDL Patent Chemistry Database</a:t>
            </a:r>
            <a:endParaRPr b="0" lang="en-US" sz="3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396252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Positioning, Content, Competitive Advantages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[Confidential]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5560920"/>
            <a:ext cx="533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Presented by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Eva Seip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Title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Senior Product Manager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Date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27-October-2004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228600" y="243000"/>
            <a:ext cx="8686800" cy="4938480"/>
            <a:chOff x="228600" y="243000"/>
            <a:chExt cx="8686800" cy="493848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rcRect l="24999" t="35049" r="3895" b="29187"/>
            <a:stretch/>
          </p:blipFill>
          <p:spPr>
            <a:xfrm>
              <a:off x="228600" y="1905120"/>
              <a:ext cx="8686800" cy="327636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185" name="" descr=""/>
            <p:cNvPicPr/>
            <p:nvPr/>
          </p:nvPicPr>
          <p:blipFill>
            <a:blip r:embed="rId2"/>
            <a:srcRect l="25003" t="29064" r="37056" b="8333"/>
            <a:stretch/>
          </p:blipFill>
          <p:spPr>
            <a:xfrm>
              <a:off x="6324480" y="243000"/>
              <a:ext cx="2590920" cy="23479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186" name=""/>
          <p:cNvSpPr/>
          <p:nvPr/>
        </p:nvSpPr>
        <p:spPr>
          <a:xfrm>
            <a:off x="1114200" y="573120"/>
            <a:ext cx="38804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xperimental Tex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600200" y="2362320"/>
            <a:ext cx="1600200" cy="152280"/>
            <a:chOff x="1600200" y="2362320"/>
            <a:chExt cx="1600200" cy="152280"/>
          </a:xfrm>
        </p:grpSpPr>
        <p:sp>
          <p:nvSpPr>
            <p:cNvPr id="188" name=""/>
            <p:cNvSpPr/>
            <p:nvPr/>
          </p:nvSpPr>
          <p:spPr>
            <a:xfrm>
              <a:off x="2133720" y="2362320"/>
              <a:ext cx="1066680" cy="15228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00200" y="243828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600200" y="2514600"/>
            <a:ext cx="4648320" cy="228600"/>
            <a:chOff x="1600200" y="2514600"/>
            <a:chExt cx="4648320" cy="228600"/>
          </a:xfrm>
        </p:grpSpPr>
        <p:sp>
          <p:nvSpPr>
            <p:cNvPr id="191" name=""/>
            <p:cNvSpPr/>
            <p:nvPr/>
          </p:nvSpPr>
          <p:spPr>
            <a:xfrm>
              <a:off x="2133720" y="2514600"/>
              <a:ext cx="4114800" cy="2286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00200" y="266688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600200" y="2743200"/>
            <a:ext cx="7315200" cy="1828800"/>
            <a:chOff x="1600200" y="2743200"/>
            <a:chExt cx="7315200" cy="1828800"/>
          </a:xfrm>
        </p:grpSpPr>
        <p:sp>
          <p:nvSpPr>
            <p:cNvPr id="194" name=""/>
            <p:cNvSpPr/>
            <p:nvPr/>
          </p:nvSpPr>
          <p:spPr>
            <a:xfrm>
              <a:off x="2133720" y="2743200"/>
              <a:ext cx="6781680" cy="18288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00200" y="342900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600200" y="4572000"/>
            <a:ext cx="7315200" cy="609480"/>
            <a:chOff x="1600200" y="4572000"/>
            <a:chExt cx="7315200" cy="609480"/>
          </a:xfrm>
        </p:grpSpPr>
        <p:sp>
          <p:nvSpPr>
            <p:cNvPr id="197" name=""/>
            <p:cNvSpPr/>
            <p:nvPr/>
          </p:nvSpPr>
          <p:spPr>
            <a:xfrm>
              <a:off x="2133720" y="4572000"/>
              <a:ext cx="6781680" cy="60948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00200" y="480060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600200" y="2438280"/>
            <a:ext cx="5007600" cy="5638320"/>
            <a:chOff x="1600200" y="2438280"/>
            <a:chExt cx="5007600" cy="5638320"/>
          </a:xfrm>
        </p:grpSpPr>
        <p:grpSp>
          <p:nvGrpSpPr>
            <p:cNvPr id="200" name=""/>
            <p:cNvGrpSpPr/>
            <p:nvPr/>
          </p:nvGrpSpPr>
          <p:grpSpPr>
            <a:xfrm>
              <a:off x="3522240" y="5332320"/>
              <a:ext cx="3085560" cy="2744280"/>
              <a:chOff x="3522240" y="5332320"/>
              <a:chExt cx="3085560" cy="274428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3522240" y="5332320"/>
                <a:ext cx="3085560" cy="2744280"/>
                <a:chOff x="3522240" y="5332320"/>
                <a:chExt cx="3085560" cy="27442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522240" y="5332320"/>
                  <a:ext cx="3085560" cy="1454040"/>
                </a:xfrm>
                <a:prstGeom prst="rect">
                  <a:avLst/>
                </a:prstGeom>
                <a:solidFill>
                  <a:srgbClr val="ff9121"/>
                </a:solidFill>
                <a:ln w="28440">
                  <a:solidFill>
                    <a:srgbClr val="ff91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41040" bIns="41040" anchor="t">
                  <a:spAutoFit/>
                </a:bodyPr>
                <a:p>
                  <a:pPr marL="255600" indent="-255600"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 u="sng">
                      <a:solidFill>
                        <a:srgbClr val="ffffff"/>
                      </a:solidFill>
                      <a:uFillTx/>
                      <a:latin typeface="CG Omega"/>
                    </a:rPr>
                    <a:t>Easy relevance check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Number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Title 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Text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Spectral Data (Product)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5127120" y="7606080"/>
                  <a:ext cx="0" cy="470520"/>
                </a:xfrm>
                <a:prstGeom prst="line">
                  <a:avLst/>
                </a:prstGeom>
                <a:ln w="28440">
                  <a:solidFill>
                    <a:srgbClr val="ff91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 flipH="1">
                <a:off x="4573080" y="8042400"/>
                <a:ext cx="553680" cy="0"/>
              </a:xfrm>
              <a:prstGeom prst="line">
                <a:avLst/>
              </a:prstGeom>
              <a:ln w="28440">
                <a:solidFill>
                  <a:srgbClr val="ff9121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4573080" y="8042400"/>
                <a:ext cx="553680" cy="0"/>
              </a:xfrm>
              <a:prstGeom prst="line">
                <a:avLst/>
              </a:prstGeom>
              <a:ln w="28440">
                <a:solidFill>
                  <a:srgbClr val="ff9121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00200" y="2438280"/>
              <a:ext cx="0" cy="365760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6095880"/>
              <a:ext cx="19810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BD18D-2155-4BA3-A55B-FE2907DE944B}" type="slidenum">
              <a:t>10</a:t>
            </a:fld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rcRect l="30265" t="13763" r="8257" b="61623"/>
          <a:stretch/>
        </p:blipFill>
        <p:spPr>
          <a:xfrm>
            <a:off x="277920" y="1268280"/>
            <a:ext cx="5495760" cy="180036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298440" y="2924280"/>
            <a:ext cx="2216160" cy="1998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rcRect l="0" t="19111" r="0" b="25830"/>
          <a:stretch/>
        </p:blipFill>
        <p:spPr>
          <a:xfrm>
            <a:off x="1039680" y="4127400"/>
            <a:ext cx="6915240" cy="265428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724280" y="1216080"/>
            <a:ext cx="4280040" cy="36608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14600" y="2971800"/>
            <a:ext cx="1440000" cy="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8000640" y="4495680"/>
            <a:ext cx="649800" cy="1096920"/>
            <a:chOff x="8000640" y="4495680"/>
            <a:chExt cx="649800" cy="1096920"/>
          </a:xfrm>
        </p:grpSpPr>
        <p:sp>
          <p:nvSpPr>
            <p:cNvPr id="214" name=""/>
            <p:cNvSpPr/>
            <p:nvPr/>
          </p:nvSpPr>
          <p:spPr>
            <a:xfrm>
              <a:off x="8648640" y="4495680"/>
              <a:ext cx="1800" cy="10666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8000640" y="5592600"/>
              <a:ext cx="64764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8029440" y="4008600"/>
            <a:ext cx="733680" cy="48708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Find Similar Reactions in (other) db’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B85D4-46EA-421D-87F0-F13856F6B1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rcRect l="23441" t="12502" r="0" b="11453"/>
          <a:stretch/>
        </p:blipFill>
        <p:spPr>
          <a:xfrm>
            <a:off x="1143000" y="1219320"/>
            <a:ext cx="7467480" cy="55623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4108320" y="1720800"/>
            <a:ext cx="4654800" cy="950040"/>
          </a:xfrm>
          <a:prstGeom prst="rect">
            <a:avLst/>
          </a:prstGeom>
          <a:solidFill>
            <a:srgbClr val="ff9121"/>
          </a:solidFill>
          <a:ln w="93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CG Omega"/>
              </a:rPr>
              <a:t>Markush* Reaction Display</a:t>
            </a:r>
            <a:br>
              <a:rPr sz="2500"/>
            </a:b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 for patents published December 2003 -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0" name=""/>
          <p:cNvSpPr/>
          <p:nvPr/>
        </p:nvSpPr>
        <p:spPr>
          <a:xfrm>
            <a:off x="1144440" y="2730600"/>
            <a:ext cx="6247080" cy="221760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984480" y="5454720"/>
            <a:ext cx="4365360" cy="783000"/>
            <a:chOff x="3984480" y="5454720"/>
            <a:chExt cx="4365360" cy="783000"/>
          </a:xfrm>
        </p:grpSpPr>
        <p:sp>
          <p:nvSpPr>
            <p:cNvPr id="222" name=""/>
            <p:cNvSpPr/>
            <p:nvPr/>
          </p:nvSpPr>
          <p:spPr>
            <a:xfrm>
              <a:off x="5134680" y="5454720"/>
              <a:ext cx="3215160" cy="78300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Location in Patent</a:t>
              </a:r>
              <a:endParaRPr b="0" lang="en-US" sz="23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“</a:t>
              </a: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Page Number”</a:t>
              </a:r>
              <a:endParaRPr b="0" lang="en-US" sz="23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984480" y="5599080"/>
              <a:ext cx="11779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144440" y="5513400"/>
            <a:ext cx="2772000" cy="20160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5" name=""/>
          <p:cNvSpPr/>
          <p:nvPr/>
        </p:nvSpPr>
        <p:spPr>
          <a:xfrm>
            <a:off x="1052280" y="533520"/>
            <a:ext cx="5445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arkush Reaction Displa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77CD7-4CB5-40FA-A607-FA83E57558FC}" type="slidenum">
              <a:t>12</a:t>
            </a:fld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447920" y="573120"/>
            <a:ext cx="75229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7" name=""/>
          <p:cNvSpPr/>
          <p:nvPr/>
        </p:nvSpPr>
        <p:spPr>
          <a:xfrm>
            <a:off x="665280" y="1565280"/>
            <a:ext cx="825012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1375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ff9122"/>
                </a:solidFill>
                <a:latin typeface="CG Omega"/>
                <a:ea typeface="Times New Roman"/>
              </a:rPr>
              <a:t>1.6 million compounds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with data since 1976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550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933"/>
                </a:solidFill>
                <a:latin typeface="CG Omega"/>
              </a:rPr>
              <a:t>Strong growth anticipated: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~800,000 Compounds/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624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ff9122"/>
                </a:solidFill>
                <a:latin typeface="CG Omega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900" spc="-1" strike="noStrike">
                <a:solidFill>
                  <a:srgbClr val="ff9121"/>
                </a:solidFill>
                <a:latin typeface="CG Omega"/>
                <a:ea typeface="Times New Roman"/>
              </a:rPr>
              <a:t>Your Benefit:  Better Bioactivity Profiling</a:t>
            </a: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71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Numerical bioactivity data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68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Indexing of compounds not covered elsewhere:</a:t>
            </a:r>
            <a:br>
              <a:rPr sz="2200"/>
            </a:b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Indexing of Prophetic Compounds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since 1976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689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could be made analogously to given method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689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have a structure, but no data associated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689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normally only accessible via Markush Structure Search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689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20-25 % more compounds than in other database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39753-A404-469E-A05F-A16D8729F6BE}" type="slidenum">
              <a:t>13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76320" y="1905120"/>
            <a:ext cx="8915400" cy="4876560"/>
            <a:chOff x="76320" y="1905120"/>
            <a:chExt cx="8915400" cy="4876560"/>
          </a:xfrm>
        </p:grpSpPr>
        <p:grpSp>
          <p:nvGrpSpPr>
            <p:cNvPr id="229" name=""/>
            <p:cNvGrpSpPr/>
            <p:nvPr/>
          </p:nvGrpSpPr>
          <p:grpSpPr>
            <a:xfrm>
              <a:off x="76320" y="1905120"/>
              <a:ext cx="8915400" cy="4876560"/>
              <a:chOff x="76320" y="1905120"/>
              <a:chExt cx="8915400" cy="4876560"/>
            </a:xfrm>
          </p:grpSpPr>
          <p:sp>
            <p:nvSpPr>
              <p:cNvPr id="230" name=""/>
              <p:cNvSpPr/>
              <p:nvPr/>
            </p:nvSpPr>
            <p:spPr>
              <a:xfrm>
                <a:off x="76320" y="4724280"/>
                <a:ext cx="2209680" cy="2057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pic>
            <p:nvPicPr>
              <p:cNvPr id="231" name="" descr=""/>
              <p:cNvPicPr/>
              <p:nvPr/>
            </p:nvPicPr>
            <p:blipFill>
              <a:blip r:embed="rId1"/>
              <a:srcRect l="13290" t="27071" r="13290" b="18753"/>
              <a:stretch/>
            </p:blipFill>
            <p:spPr>
              <a:xfrm>
                <a:off x="195120" y="1905120"/>
                <a:ext cx="8796600" cy="4725720"/>
              </a:xfrm>
              <a:prstGeom prst="rect">
                <a:avLst/>
              </a:prstGeom>
              <a:ln w="9360">
                <a:solidFill>
                  <a:srgbClr val="ff9121"/>
                </a:solidFill>
                <a:miter/>
              </a:ln>
            </p:spPr>
          </p:pic>
        </p:grpSp>
        <p:sp>
          <p:nvSpPr>
            <p:cNvPr id="232" name=""/>
            <p:cNvSpPr/>
            <p:nvPr/>
          </p:nvSpPr>
          <p:spPr>
            <a:xfrm>
              <a:off x="254160" y="5357880"/>
              <a:ext cx="8534160" cy="28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1300" spc="-1" strike="noStrike">
                  <a:solidFill>
                    <a:srgbClr val="000066"/>
                  </a:solidFill>
                  <a:latin typeface="Arial"/>
                </a:rPr>
                <a:t>The following compounds could be prepared according to the similar procedure as Preparation 2 above</a:t>
              </a:r>
              <a:endParaRPr b="0" lang="en-US" sz="13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371600" y="573120"/>
            <a:ext cx="76201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4" name=""/>
          <p:cNvSpPr/>
          <p:nvPr/>
        </p:nvSpPr>
        <p:spPr>
          <a:xfrm>
            <a:off x="138240" y="1371600"/>
            <a:ext cx="8727840" cy="44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7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ff9121"/>
                </a:solidFill>
                <a:latin typeface="CG Omega"/>
                <a:ea typeface="Times New Roman"/>
              </a:rPr>
              <a:t>Prophetic Compound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95120" y="1924200"/>
            <a:ext cx="8796600" cy="3362040"/>
            <a:chOff x="195120" y="1924200"/>
            <a:chExt cx="8796600" cy="3362040"/>
          </a:xfrm>
        </p:grpSpPr>
        <p:sp>
          <p:nvSpPr>
            <p:cNvPr id="236" name=""/>
            <p:cNvSpPr/>
            <p:nvPr/>
          </p:nvSpPr>
          <p:spPr>
            <a:xfrm>
              <a:off x="195120" y="1924200"/>
              <a:ext cx="8796600" cy="336204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1640" y="4114800"/>
              <a:ext cx="540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000" spc="-1" strike="noStrike">
                  <a:solidFill>
                    <a:srgbClr val="ff9121"/>
                  </a:solidFill>
                  <a:latin typeface="Arial"/>
                </a:rPr>
                <a:t>Compounds with data (e.g. yield, spectra)</a:t>
              </a:r>
              <a:endParaRPr b="0" lang="en-US" sz="20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95120" y="5286240"/>
            <a:ext cx="8796600" cy="1344600"/>
            <a:chOff x="195120" y="5286240"/>
            <a:chExt cx="8796600" cy="1344600"/>
          </a:xfrm>
        </p:grpSpPr>
        <p:sp>
          <p:nvSpPr>
            <p:cNvPr id="239" name=""/>
            <p:cNvSpPr/>
            <p:nvPr/>
          </p:nvSpPr>
          <p:spPr>
            <a:xfrm>
              <a:off x="7069680" y="5689440"/>
              <a:ext cx="1793880" cy="75276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000066"/>
                  </a:solidFill>
                  <a:latin typeface="Arial"/>
                </a:rPr>
                <a:t>Prophetic 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000066"/>
                  </a:solidFill>
                  <a:latin typeface="Arial"/>
                </a:rPr>
                <a:t>Compounds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5120" y="5286240"/>
              <a:ext cx="8796600" cy="13446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DAFCE-72B7-4A6B-A829-8E6A0221A05F}" type="slidenum">
              <a:t>14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46160" y="1143000"/>
            <a:ext cx="8589600" cy="5287680"/>
            <a:chOff x="146160" y="1143000"/>
            <a:chExt cx="8589600" cy="528768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47289" t="37801" r="2326" b="16686"/>
            <a:stretch/>
          </p:blipFill>
          <p:spPr>
            <a:xfrm>
              <a:off x="146160" y="1278720"/>
              <a:ext cx="8384760" cy="515196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244" name="" descr=""/>
            <p:cNvPicPr/>
            <p:nvPr/>
          </p:nvPicPr>
          <p:blipFill>
            <a:blip r:embed="rId2"/>
            <a:srcRect l="2326" t="64576" r="76562" b="7285"/>
            <a:stretch/>
          </p:blipFill>
          <p:spPr>
            <a:xfrm>
              <a:off x="6448320" y="1143000"/>
              <a:ext cx="2287440" cy="221868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245" name=""/>
          <p:cNvSpPr/>
          <p:nvPr/>
        </p:nvSpPr>
        <p:spPr>
          <a:xfrm>
            <a:off x="111240" y="2117880"/>
            <a:ext cx="4155840" cy="50472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817440" y="4908600"/>
            <a:ext cx="3740400" cy="1087920"/>
            <a:chOff x="3817440" y="4908600"/>
            <a:chExt cx="3740400" cy="1087920"/>
          </a:xfrm>
        </p:grpSpPr>
        <p:sp>
          <p:nvSpPr>
            <p:cNvPr id="247" name=""/>
            <p:cNvSpPr/>
            <p:nvPr/>
          </p:nvSpPr>
          <p:spPr>
            <a:xfrm>
              <a:off x="4968000" y="4908600"/>
              <a:ext cx="2589840" cy="108792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Location in Patent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“</a:t>
              </a: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Page Number”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817440" y="5253480"/>
              <a:ext cx="117756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38240" y="5110200"/>
            <a:ext cx="3671640" cy="30168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0" name=""/>
          <p:cNvSpPr/>
          <p:nvPr/>
        </p:nvSpPr>
        <p:spPr>
          <a:xfrm>
            <a:off x="1091160" y="496800"/>
            <a:ext cx="563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Numerical Bioactivity Data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1" name=""/>
          <p:cNvSpPr/>
          <p:nvPr/>
        </p:nvSpPr>
        <p:spPr>
          <a:xfrm>
            <a:off x="4849920" y="6485040"/>
            <a:ext cx="4086000" cy="2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CG Omega"/>
              </a:rPr>
              <a:t>* From Publication Year 2004 onwards</a:t>
            </a: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973CF-DEDF-480C-B1F9-5154FAF7DD7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886760" y="268200"/>
            <a:ext cx="54255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spcAft>
                <a:spcPts val="181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Helvetica 55 Roman"/>
                <a:ea typeface="Times New Roman"/>
              </a:rPr>
              <a:t>EASY-TO-USE EXPORT-WIZARD</a:t>
            </a: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3" name=""/>
          <p:cNvSpPr/>
          <p:nvPr/>
        </p:nvSpPr>
        <p:spPr>
          <a:xfrm>
            <a:off x="960120" y="496800"/>
            <a:ext cx="8139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xport to Structure-Activity-Table (SAR)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3127" t="16666" r="1562" b="9376"/>
          <a:stretch/>
        </p:blipFill>
        <p:spPr>
          <a:xfrm>
            <a:off x="228600" y="1268280"/>
            <a:ext cx="8686800" cy="50562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255" name=""/>
          <p:cNvSpPr/>
          <p:nvPr/>
        </p:nvSpPr>
        <p:spPr>
          <a:xfrm>
            <a:off x="2593800" y="5943600"/>
            <a:ext cx="3954960" cy="463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Predefined Export Forms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D990A-8106-40EB-9FF7-B058ECB4944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121"/>
                </a:solidFill>
                <a:latin typeface="CG Omega"/>
              </a:rPr>
              <a:t>Substance Profil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25003" t="12502" r="1562" b="8333"/>
          <a:stretch/>
        </p:blipFill>
        <p:spPr>
          <a:xfrm>
            <a:off x="1828800" y="1225440"/>
            <a:ext cx="6210360" cy="5023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258" name="" descr=""/>
          <p:cNvPicPr/>
          <p:nvPr/>
        </p:nvPicPr>
        <p:blipFill>
          <a:blip r:embed="rId2"/>
          <a:srcRect l="783" t="61461" r="75784" b="14584"/>
          <a:stretch/>
        </p:blipFill>
        <p:spPr>
          <a:xfrm>
            <a:off x="6095880" y="685800"/>
            <a:ext cx="2286000" cy="1752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259" name=""/>
          <p:cNvSpPr/>
          <p:nvPr/>
        </p:nvSpPr>
        <p:spPr>
          <a:xfrm>
            <a:off x="802800" y="6019920"/>
            <a:ext cx="8259480" cy="764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G Omega"/>
              </a:rPr>
              <a:t>A substance record is a </a:t>
            </a:r>
            <a:r>
              <a:rPr b="1" lang="en-GB" sz="2200" spc="-1" strike="noStrike" u="sng">
                <a:solidFill>
                  <a:srgbClr val="ffffff"/>
                </a:solidFill>
                <a:uFillTx/>
                <a:latin typeface="CG Omega"/>
              </a:rPr>
              <a:t>substance profile</a:t>
            </a:r>
            <a:r>
              <a:rPr b="1" lang="en-GB" sz="2200" spc="-1" strike="noStrike">
                <a:solidFill>
                  <a:srgbClr val="ffffff"/>
                </a:solidFill>
                <a:latin typeface="CG Omega"/>
              </a:rPr>
              <a:t> accumulating 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CG Omega"/>
              </a:rPr>
              <a:t>multiple properties and reactions (from different patents)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3A8C7-842C-4994-8B8E-620F13A560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69640" y="573120"/>
            <a:ext cx="36046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Technical Detail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61" name=""/>
          <p:cNvSpPr/>
          <p:nvPr/>
        </p:nvSpPr>
        <p:spPr>
          <a:xfrm>
            <a:off x="1406520" y="1147680"/>
            <a:ext cx="7737480" cy="57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7000"/>
          </a:bodyPr>
          <a:p>
            <a:pPr marL="332640" indent="-33264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CrossFire format database for use with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CrossFire Direct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74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in-house CrossFire Server [d</a:t>
            </a:r>
            <a:r>
              <a:rPr b="0" lang="en-GB" sz="2000" spc="-1" strike="noStrike">
                <a:solidFill>
                  <a:srgbClr val="808080"/>
                </a:solidFill>
                <a:latin typeface="CG Omega"/>
              </a:rPr>
              <a:t>elivery via tape, FTP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DiscoveryGate (coming soon)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marL="332640" indent="-33264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DiscoveryGate implementation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DatabaseBrowser (coming soon)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Compound Index (coming soon)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marL="332640" indent="-33264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Updates / Timeliness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Bi-weekly updates on CrossFire Direct and DatabaseBrowse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Semi-automatically indexed patents with frontpage, claims, many reactions and physical data already 2 weeks after publication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Fully indexed record incl. Markush structures/reactions and bioactivity data a few weeks late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marL="332640" indent="-33264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Strong Yearly Growth anticipated:</a:t>
            </a:r>
            <a:br>
              <a:rPr sz="1900"/>
            </a:b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500,000 reactions</a:t>
            </a:r>
            <a:br>
              <a:rPr sz="1900"/>
            </a:b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800,000 compounds</a:t>
            </a:r>
            <a:br>
              <a:rPr sz="1900"/>
            </a:b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  35,000 patent citations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9AE09-6208-4B84-8BBA-3D75B87D9CDA}" type="slidenum">
              <a:t>18</a:t>
            </a:fld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rcRect l="0" t="4814" r="0" b="87503"/>
          <a:stretch/>
        </p:blipFill>
        <p:spPr>
          <a:xfrm>
            <a:off x="380880" y="1552680"/>
            <a:ext cx="8458200" cy="5047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263" name=""/>
          <p:cNvSpPr/>
          <p:nvPr/>
        </p:nvSpPr>
        <p:spPr>
          <a:xfrm>
            <a:off x="5562720" y="1857240"/>
            <a:ext cx="609480" cy="152640"/>
          </a:xfrm>
          <a:prstGeom prst="rect">
            <a:avLst/>
          </a:prstGeom>
          <a:noFill/>
          <a:ln w="381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64" name=""/>
          <p:cNvSpPr/>
          <p:nvPr/>
        </p:nvSpPr>
        <p:spPr>
          <a:xfrm>
            <a:off x="988920" y="496800"/>
            <a:ext cx="67744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Alert Service – to stay up-to-date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981080" y="2249640"/>
            <a:ext cx="6782040" cy="4051080"/>
            <a:chOff x="1981080" y="2249640"/>
            <a:chExt cx="6782040" cy="4051080"/>
          </a:xfrm>
        </p:grpSpPr>
        <p:pic>
          <p:nvPicPr>
            <p:cNvPr id="266" name="" descr=""/>
            <p:cNvPicPr/>
            <p:nvPr/>
          </p:nvPicPr>
          <p:blipFill>
            <a:blip r:embed="rId2"/>
            <a:srcRect l="23438" t="12502" r="783" b="48354"/>
            <a:stretch/>
          </p:blipFill>
          <p:spPr>
            <a:xfrm>
              <a:off x="1981080" y="2249640"/>
              <a:ext cx="6782040" cy="262728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267" name="" descr=""/>
            <p:cNvPicPr/>
            <p:nvPr/>
          </p:nvPicPr>
          <p:blipFill>
            <a:blip r:embed="rId3"/>
            <a:srcRect l="23438" t="75651" r="783" b="5409"/>
            <a:stretch/>
          </p:blipFill>
          <p:spPr>
            <a:xfrm>
              <a:off x="1981080" y="5029200"/>
              <a:ext cx="6782040" cy="12715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grpSp>
        <p:nvGrpSpPr>
          <p:cNvPr id="268" name=""/>
          <p:cNvGrpSpPr/>
          <p:nvPr/>
        </p:nvGrpSpPr>
        <p:grpSpPr>
          <a:xfrm>
            <a:off x="54720" y="3946680"/>
            <a:ext cx="8784360" cy="2377800"/>
            <a:chOff x="54720" y="3946680"/>
            <a:chExt cx="8784360" cy="2377800"/>
          </a:xfrm>
        </p:grpSpPr>
        <p:sp>
          <p:nvSpPr>
            <p:cNvPr id="269" name=""/>
            <p:cNvSpPr/>
            <p:nvPr/>
          </p:nvSpPr>
          <p:spPr>
            <a:xfrm>
              <a:off x="1905120" y="4952880"/>
              <a:ext cx="6933960" cy="1371600"/>
            </a:xfrm>
            <a:prstGeom prst="rect">
              <a:avLst/>
            </a:prstGeom>
            <a:noFill/>
            <a:ln w="1908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4720" y="3946680"/>
              <a:ext cx="1864080" cy="1616040"/>
              <a:chOff x="54720" y="3946680"/>
              <a:chExt cx="1864080" cy="1616040"/>
            </a:xfrm>
          </p:grpSpPr>
          <p:sp>
            <p:nvSpPr>
              <p:cNvPr id="271" name=""/>
              <p:cNvSpPr/>
              <p:nvPr/>
            </p:nvSpPr>
            <p:spPr>
              <a:xfrm>
                <a:off x="54720" y="3946680"/>
                <a:ext cx="1864080" cy="844200"/>
              </a:xfrm>
              <a:prstGeom prst="rect">
                <a:avLst/>
              </a:prstGeom>
              <a:solidFill>
                <a:srgbClr val="ff9121"/>
              </a:solidFill>
              <a:ln w="19080">
                <a:solidFill>
                  <a:srgbClr val="ff91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GB" sz="2500" spc="-1" strike="noStrike">
                    <a:solidFill>
                      <a:srgbClr val="ffffff"/>
                    </a:solidFill>
                    <a:latin typeface="CG Omega"/>
                  </a:rPr>
                  <a:t>Alert </a:t>
                </a:r>
                <a:endParaRPr b="0" lang="en-US" sz="25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GB" sz="2500" spc="-1" strike="noStrike">
                    <a:solidFill>
                      <a:srgbClr val="ffffff"/>
                    </a:solidFill>
                    <a:latin typeface="CG Omega"/>
                  </a:rPr>
                  <a:t>Conditions</a:t>
                </a:r>
                <a:endParaRPr b="0" lang="en-US" sz="25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990720" y="5562720"/>
                <a:ext cx="609480" cy="0"/>
              </a:xfrm>
              <a:prstGeom prst="line">
                <a:avLst/>
              </a:prstGeom>
              <a:ln w="19080">
                <a:solidFill>
                  <a:srgbClr val="ff9122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990720" y="4876920"/>
                <a:ext cx="0" cy="685800"/>
              </a:xfrm>
              <a:prstGeom prst="line">
                <a:avLst/>
              </a:prstGeom>
              <a:ln w="19080">
                <a:solidFill>
                  <a:srgbClr val="ff91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FAA64-FD91-4D03-B1AE-3F7A10C3EFF9}" type="slidenum">
              <a:t>19</a:t>
            </a:fld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86000" y="4694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DL</a:t>
            </a:r>
            <a:r>
              <a:rPr b="1" lang="en-US" sz="3200" spc="-1" strike="noStrike">
                <a:solidFill>
                  <a:srgbClr val="ff9121"/>
                </a:solidFill>
                <a:latin typeface="Symbol"/>
                <a:ea typeface="Symbol"/>
              </a:rPr>
              <a:t>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 Patent Chemistry Databas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86000" y="1868400"/>
            <a:ext cx="782784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Aft>
                <a:spcPts val="575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A new structure-searchable CrossFire database 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1" marL="1073160" indent="-31752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mainly for end-users, but with interesting features for information professionals also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1073160" indent="-31752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indexing chemical reactions, substances and substance related information from Chemistry and LifeScience patents 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(World, U.S. and European) since 1976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1073160" indent="-31752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808080"/>
                </a:solidFill>
                <a:latin typeface="CG Omega"/>
              </a:rPr>
              <a:t>addressing the following business critical issues: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2" marL="1517760" indent="-25416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100" spc="-1" strike="noStrike">
                <a:solidFill>
                  <a:srgbClr val="ff9900"/>
                </a:solidFill>
                <a:latin typeface="CG Omega"/>
              </a:rPr>
              <a:t>Mo</a:t>
            </a: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re effective synthesis planning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lvl="2" marL="1517760" indent="-25416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Better bioactivity profiling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lvl="2" marL="1517760" indent="-25416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Easy patent relevance check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marL="476280" indent="-476280">
              <a:spcAft>
                <a:spcPts val="575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Integrated with other data sources on DiscoveryGate soon </a:t>
            </a: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(mid 2005)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07" name=""/>
          <p:cNvSpPr/>
          <p:nvPr/>
        </p:nvSpPr>
        <p:spPr>
          <a:xfrm>
            <a:off x="1258560" y="1233360"/>
            <a:ext cx="2361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CG Omega"/>
              </a:rPr>
              <a:t>What is it?</a:t>
            </a:r>
            <a:endParaRPr b="0" lang="en-US" sz="33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358D6-DFC7-455B-9FED-B4F1CE69214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457200"/>
            <a:ext cx="752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mmar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04920" y="1143000"/>
          <a:ext cx="8610480" cy="5610240"/>
        </p:xfrm>
        <a:graphic>
          <a:graphicData uri="http://schemas.openxmlformats.org/drawingml/2006/table">
            <a:tbl>
              <a:tblPr/>
              <a:tblGrid>
                <a:gridCol w="1371600"/>
                <a:gridCol w="7238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dva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Re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ore Effective Synthesis Pla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1.5 Million Structure-Searchable Reac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Strong growth anticipated: + 500,000 reactions/ye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Complete Experimental Sec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InfoChem ClassCodes [Find Similar Reaction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arkush Reaction Display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Location in Patent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4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etter Bioactivity Profi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1.6 Million Structure-Searchable Substanc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trong growth anticipated: </a:t>
                      </a: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+ 800,000/Ye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ophetic Compound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tance Profiles: Properties &amp; reactions accumulated in one reco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umerical Bioactivity Data [Structure-Activity-Relationship-Table]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Related Markush Structure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mpound Identifier in Patent* &amp; Location in Patent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i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asy Relevance Che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ull Claims Text – searchable together with structures/reac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arkush Structure/ Reaction Display* [Expanded Form: Substituent List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efined Substances related to a Markush structure* [“Representatives”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5383080" y="3048120"/>
            <a:ext cx="36846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G Omega"/>
              </a:rPr>
              <a:t>* From Publication Year 2004 onwards</a:t>
            </a: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6873E-8CD0-4E2A-B12F-6657F9B5FE3B}" type="slidenum">
              <a:t>20</a:t>
            </a:fld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457200"/>
            <a:ext cx="752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mmar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04920" y="1219320"/>
          <a:ext cx="8610480" cy="5410080"/>
        </p:xfrm>
        <a:graphic>
          <a:graphicData uri="http://schemas.openxmlformats.org/drawingml/2006/table">
            <a:tbl>
              <a:tblPr/>
              <a:tblGrid>
                <a:gridCol w="1751040"/>
                <a:gridCol w="685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dva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3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Timel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Bi-weekly Upd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S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emi-automatically indexed patents with frontpage, claims,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any compounds, reactions and phys. data already 2 weeks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after pub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Fully indexed record incl. Markush structures, Markush reactions and bioactivity data a few weeks l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Alert Service [Export/Import Alert Profil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6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ser-Inte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etter Integr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Integration into DiscoveryGate (soon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DL Standard Look &amp; Fe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nd Similar Reactions in all MDL databases [Reaction Class Cod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Grouping &amp; Sor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earch &amp; Hitset Histo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asy to Use: Find Field Name; Predefined Search Form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xpert Search Mode: Command Langua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ophisticated Export/Report Formats [List and Table View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xed User Fee [All-You-Can-Eat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cription; Alert included in Fixed Fe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D36E2-F6BA-466F-83C6-8CED7A476C14}" type="slidenum">
              <a:t>21</a:t>
            </a:fld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1600" y="1528920"/>
            <a:ext cx="7696080" cy="456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0000"/>
          </a:bodyPr>
          <a:p>
            <a:pPr marL="407160" indent="-407160"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Covered International Patent Classes [IPC]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6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07</a:t>
            </a: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Organic Chemistry*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A61K</a:t>
            </a:r>
            <a:r>
              <a:rPr b="0" lang="en-GB" sz="20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Drugs [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Medicinal, Dental, Cosmetic Preparations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A01N</a:t>
            </a:r>
            <a:r>
              <a:rPr b="0" lang="en-GB" sz="20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Biocides [Agrochemicals, Disinfectants, etc.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09B</a:t>
            </a:r>
            <a:r>
              <a:rPr b="0" lang="en-GB" sz="20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Dyes [can be pharmacological active]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* Polymers indexed from 2004 onwards, when mentioned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   in these 4 IPC’s (e. g. formulations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Bef>
                <a:spcPts val="1500"/>
              </a:spcBef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Covered Patent Agencie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842760" indent="-333000">
              <a:spcAft>
                <a:spcPts val="49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World (WO), United States (US), European (EP) patents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from Publication Year 1976 onward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533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Content and Coverag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BF61C-55EC-4080-9913-B6107737184D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295280"/>
            <a:ext cx="853452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3505320"/>
            <a:ext cx="2590560" cy="15112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arkush Reactions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3505320"/>
            <a:ext cx="2349360" cy="151128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Substance Structur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Markush Structures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Bioactivity Data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Application Data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Physical Data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2743200"/>
            <a:ext cx="2590560" cy="53352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action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2743200"/>
            <a:ext cx="2362320" cy="53352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Substance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895480" y="5257440"/>
            <a:ext cx="4343400" cy="228960"/>
            <a:chOff x="2895480" y="5257440"/>
            <a:chExt cx="4343400" cy="228960"/>
          </a:xfrm>
        </p:grpSpPr>
        <p:sp>
          <p:nvSpPr>
            <p:cNvPr id="120" name=""/>
            <p:cNvSpPr/>
            <p:nvPr/>
          </p:nvSpPr>
          <p:spPr>
            <a:xfrm>
              <a:off x="2895480" y="5486400"/>
              <a:ext cx="434340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7238880" y="525744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895480" y="5219640"/>
            <a:ext cx="1524240" cy="1181160"/>
            <a:chOff x="2895480" y="5219640"/>
            <a:chExt cx="1524240" cy="1181160"/>
          </a:xfrm>
        </p:grpSpPr>
        <p:sp>
          <p:nvSpPr>
            <p:cNvPr id="123" name=""/>
            <p:cNvSpPr/>
            <p:nvPr/>
          </p:nvSpPr>
          <p:spPr>
            <a:xfrm>
              <a:off x="2895480" y="6400800"/>
              <a:ext cx="152424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419720" y="5562000"/>
              <a:ext cx="0" cy="838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419720" y="5219640"/>
              <a:ext cx="0" cy="177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6172200" y="5880240"/>
            <a:ext cx="2362320" cy="8254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648320" y="5219640"/>
            <a:ext cx="1523880" cy="1181160"/>
            <a:chOff x="4648320" y="5219640"/>
            <a:chExt cx="1523880" cy="1181160"/>
          </a:xfrm>
        </p:grpSpPr>
        <p:sp>
          <p:nvSpPr>
            <p:cNvPr id="128" name=""/>
            <p:cNvSpPr/>
            <p:nvPr/>
          </p:nvSpPr>
          <p:spPr>
            <a:xfrm flipV="1">
              <a:off x="4660920" y="5562000"/>
              <a:ext cx="0" cy="838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660920" y="5219640"/>
              <a:ext cx="0" cy="177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8320" y="6400800"/>
              <a:ext cx="152388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217520" y="533520"/>
            <a:ext cx="823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Database Design – Three “Contexts”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19320"/>
            <a:ext cx="800100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atent Document [XML, SGML]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rontpage, Claims, Markush Structures, Example Text, Substance Properti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2286000" cy="1511280"/>
          </a:xfrm>
          <a:prstGeom prst="rect">
            <a:avLst/>
          </a:prstGeom>
          <a:solidFill>
            <a:srgbClr val="ffcc66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Frontpage Data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[BIB TIT ABS CIT]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laims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755800"/>
            <a:ext cx="2286000" cy="533520"/>
          </a:xfrm>
          <a:prstGeom prst="rect">
            <a:avLst/>
          </a:prstGeom>
          <a:solidFill>
            <a:srgbClr val="ffcc66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itation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5" name=""/>
          <p:cNvSpPr/>
          <p:nvPr/>
        </p:nvSpPr>
        <p:spPr>
          <a:xfrm>
            <a:off x="622440" y="5880240"/>
            <a:ext cx="2260440" cy="8254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ncl. 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5181480"/>
            <a:ext cx="2286000" cy="53352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Substance Structur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incl. 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7" name=""/>
          <p:cNvSpPr/>
          <p:nvPr/>
        </p:nvSpPr>
        <p:spPr>
          <a:xfrm>
            <a:off x="7089120" y="5454720"/>
            <a:ext cx="20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 For PY&gt;=Dec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41506-FBC7-476F-9C91-5FA378C277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93720" y="228600"/>
            <a:ext cx="775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Competitive Advantages</a:t>
            </a:r>
            <a:r>
              <a:rPr b="0" lang="en-US" sz="2200" spc="-1" strike="noStrike">
                <a:solidFill>
                  <a:srgbClr val="ffffff"/>
                </a:solidFill>
                <a:latin typeface="CG Omega"/>
              </a:rPr>
              <a:t> - </a:t>
            </a: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9" name=""/>
          <p:cNvSpPr/>
          <p:nvPr/>
        </p:nvSpPr>
        <p:spPr>
          <a:xfrm>
            <a:off x="1386000" y="1441440"/>
            <a:ext cx="7813440" cy="51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36600" indent="-336600">
              <a:spcAft>
                <a:spcPts val="62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1"/>
                </a:solidFill>
                <a:latin typeface="CG Omega"/>
              </a:rPr>
              <a:t>Database Content: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t release: approx. 340,000 Patent Cita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nticipated Growth:  35,000 Patents / 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62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2"/>
                </a:solidFill>
                <a:latin typeface="CG Omega"/>
              </a:rPr>
              <a:t>Your Benefits: Easy Relevance Check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Full claims text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together with Main Markush structures </a:t>
            </a:r>
            <a:br>
              <a:rPr sz="2200"/>
            </a:b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nd main Markush Reactions*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Expanded Markush Structure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with full substituent lis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Defined </a:t>
            </a: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compounds related to Markush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structure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Easy relevance check without time consuming access to original patent documen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73120"/>
            <a:ext cx="7620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itation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1" name=""/>
          <p:cNvSpPr/>
          <p:nvPr/>
        </p:nvSpPr>
        <p:spPr>
          <a:xfrm>
            <a:off x="2725560" y="609588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81D55-12D9-4382-8E29-8498218A72C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80880" y="1523880"/>
            <a:ext cx="8305920" cy="4800600"/>
            <a:chOff x="380880" y="1523880"/>
            <a:chExt cx="8305920" cy="480060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rcRect l="19148" t="27854" r="0" b="5207"/>
            <a:stretch/>
          </p:blipFill>
          <p:spPr>
            <a:xfrm>
              <a:off x="380880" y="1579680"/>
              <a:ext cx="8244000" cy="47052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rcRect l="24146" t="27302" r="783" b="68539"/>
            <a:stretch/>
          </p:blipFill>
          <p:spPr>
            <a:xfrm>
              <a:off x="380880" y="1523880"/>
              <a:ext cx="815364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3"/>
            <a:srcRect l="24146" t="43850" r="0" b="53128"/>
            <a:stretch/>
          </p:blipFill>
          <p:spPr>
            <a:xfrm>
              <a:off x="380880" y="4098960"/>
              <a:ext cx="815364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80880" y="1600200"/>
              <a:ext cx="8305920" cy="4724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0880" y="2666880"/>
            <a:ext cx="8305920" cy="95436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9" name=""/>
          <p:cNvSpPr/>
          <p:nvPr/>
        </p:nvSpPr>
        <p:spPr>
          <a:xfrm>
            <a:off x="7331040" y="2666880"/>
            <a:ext cx="1373400" cy="356760"/>
          </a:xfrm>
          <a:prstGeom prst="rect">
            <a:avLst/>
          </a:prstGeom>
          <a:solidFill>
            <a:srgbClr val="ff9121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Claim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0" name=""/>
          <p:cNvSpPr/>
          <p:nvPr/>
        </p:nvSpPr>
        <p:spPr>
          <a:xfrm>
            <a:off x="7473240" y="5346720"/>
            <a:ext cx="1305000" cy="905400"/>
          </a:xfrm>
          <a:prstGeom prst="rect">
            <a:avLst/>
          </a:prstGeom>
          <a:solidFill>
            <a:srgbClr val="ff9121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4092480"/>
            <a:ext cx="8305920" cy="2232000"/>
          </a:xfrm>
          <a:prstGeom prst="rect">
            <a:avLst/>
          </a:prstGeom>
          <a:noFill/>
          <a:ln w="1908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2" name=""/>
          <p:cNvSpPr/>
          <p:nvPr/>
        </p:nvSpPr>
        <p:spPr>
          <a:xfrm>
            <a:off x="885600" y="152280"/>
            <a:ext cx="80092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aim &amp; Markush Structures</a:t>
            </a:r>
            <a:br>
              <a:rPr sz="3200"/>
            </a:b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     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to explore fast scope of paten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3" name=""/>
          <p:cNvSpPr/>
          <p:nvPr/>
        </p:nvSpPr>
        <p:spPr>
          <a:xfrm>
            <a:off x="2725560" y="640080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7EF5A-4062-4BE1-8DC4-86D6382BAD25}" type="slidenum">
              <a:t>6</a:t>
            </a:fld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304920" y="1447920"/>
            <a:ext cx="8534160" cy="3965400"/>
            <a:chOff x="304920" y="1447920"/>
            <a:chExt cx="8534160" cy="3965400"/>
          </a:xfrm>
        </p:grpSpPr>
        <p:grpSp>
          <p:nvGrpSpPr>
            <p:cNvPr id="155" name=""/>
            <p:cNvGrpSpPr/>
            <p:nvPr/>
          </p:nvGrpSpPr>
          <p:grpSpPr>
            <a:xfrm>
              <a:off x="304920" y="1457280"/>
              <a:ext cx="8534160" cy="3956040"/>
              <a:chOff x="304920" y="1457280"/>
              <a:chExt cx="8534160" cy="3956040"/>
            </a:xfrm>
          </p:grpSpPr>
          <p:pic>
            <p:nvPicPr>
              <p:cNvPr id="156" name="" descr=""/>
              <p:cNvPicPr/>
              <p:nvPr/>
            </p:nvPicPr>
            <p:blipFill>
              <a:blip r:embed="rId1"/>
              <a:srcRect l="19067" t="14264" r="0" b="36167"/>
              <a:stretch/>
            </p:blipFill>
            <p:spPr>
              <a:xfrm>
                <a:off x="304920" y="1533600"/>
                <a:ext cx="8534160" cy="38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2"/>
              <a:srcRect l="23438" t="12502" r="0" b="70837"/>
              <a:stretch/>
            </p:blipFill>
            <p:spPr>
              <a:xfrm>
                <a:off x="304920" y="1457280"/>
                <a:ext cx="853416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8" name=""/>
            <p:cNvSpPr/>
            <p:nvPr/>
          </p:nvSpPr>
          <p:spPr>
            <a:xfrm>
              <a:off x="304920" y="1447920"/>
              <a:ext cx="8534160" cy="3886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04920" y="4952880"/>
            <a:ext cx="3657240" cy="403200"/>
            <a:chOff x="304920" y="4952880"/>
            <a:chExt cx="3657240" cy="403200"/>
          </a:xfrm>
        </p:grpSpPr>
        <p:sp>
          <p:nvSpPr>
            <p:cNvPr id="160" name=""/>
            <p:cNvSpPr/>
            <p:nvPr/>
          </p:nvSpPr>
          <p:spPr>
            <a:xfrm>
              <a:off x="304920" y="4952880"/>
              <a:ext cx="2103120" cy="4032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08040" y="5154480"/>
              <a:ext cx="15541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pic>
        <p:nvPicPr>
          <p:cNvPr id="162" name="" descr=""/>
          <p:cNvPicPr/>
          <p:nvPr/>
        </p:nvPicPr>
        <p:blipFill>
          <a:blip r:embed="rId3"/>
          <a:srcRect l="32031" t="12005" r="17970" b="17901"/>
          <a:stretch/>
        </p:blipFill>
        <p:spPr>
          <a:xfrm>
            <a:off x="4675320" y="1311120"/>
            <a:ext cx="4240080" cy="43275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6423480" y="4800600"/>
            <a:ext cx="2426400" cy="631080"/>
          </a:xfrm>
          <a:prstGeom prst="rect">
            <a:avLst/>
          </a:prstGeom>
          <a:solidFill>
            <a:srgbClr val="ff9121"/>
          </a:solidFill>
          <a:ln w="93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Generic Symbols as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written in Full-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64" name=""/>
          <p:cNvSpPr/>
          <p:nvPr/>
        </p:nvSpPr>
        <p:spPr>
          <a:xfrm>
            <a:off x="847080" y="496800"/>
            <a:ext cx="84340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Highlight:   Expanded Markush Structure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65" name=""/>
          <p:cNvSpPr/>
          <p:nvPr/>
        </p:nvSpPr>
        <p:spPr>
          <a:xfrm>
            <a:off x="2725560" y="609588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64588-64BD-4DDB-B47B-43DEE81FE9F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04920" y="1523880"/>
            <a:ext cx="8534160" cy="3965400"/>
            <a:chOff x="304920" y="1523880"/>
            <a:chExt cx="8534160" cy="3965400"/>
          </a:xfrm>
        </p:grpSpPr>
        <p:grpSp>
          <p:nvGrpSpPr>
            <p:cNvPr id="167" name=""/>
            <p:cNvGrpSpPr/>
            <p:nvPr/>
          </p:nvGrpSpPr>
          <p:grpSpPr>
            <a:xfrm>
              <a:off x="304920" y="1533240"/>
              <a:ext cx="8534160" cy="3956040"/>
              <a:chOff x="304920" y="1533240"/>
              <a:chExt cx="8534160" cy="3956040"/>
            </a:xfrm>
          </p:grpSpPr>
          <p:pic>
            <p:nvPicPr>
              <p:cNvPr id="168" name="" descr=""/>
              <p:cNvPicPr/>
              <p:nvPr/>
            </p:nvPicPr>
            <p:blipFill>
              <a:blip r:embed="rId1"/>
              <a:srcRect l="19067" t="14264" r="0" b="36167"/>
              <a:stretch/>
            </p:blipFill>
            <p:spPr>
              <a:xfrm>
                <a:off x="304920" y="1609560"/>
                <a:ext cx="8534160" cy="38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2"/>
              <a:srcRect l="23438" t="12502" r="0" b="70837"/>
              <a:stretch/>
            </p:blipFill>
            <p:spPr>
              <a:xfrm>
                <a:off x="304920" y="1533240"/>
                <a:ext cx="853416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0" name=""/>
            <p:cNvSpPr/>
            <p:nvPr/>
          </p:nvSpPr>
          <p:spPr>
            <a:xfrm>
              <a:off x="304920" y="1523880"/>
              <a:ext cx="8534160" cy="3886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04920" y="2895480"/>
            <a:ext cx="4495320" cy="237960"/>
            <a:chOff x="304920" y="2895480"/>
            <a:chExt cx="4495320" cy="237960"/>
          </a:xfrm>
        </p:grpSpPr>
        <p:sp>
          <p:nvSpPr>
            <p:cNvPr id="172" name=""/>
            <p:cNvSpPr/>
            <p:nvPr/>
          </p:nvSpPr>
          <p:spPr>
            <a:xfrm>
              <a:off x="304920" y="2895480"/>
              <a:ext cx="2644200" cy="23796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49120" y="3006720"/>
              <a:ext cx="18511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886320" y="228600"/>
            <a:ext cx="84034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Defined Substances related to Markush -</a:t>
            </a:r>
            <a:br>
              <a:rPr sz="3200"/>
            </a:b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asy relevance check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938840" y="1401840"/>
            <a:ext cx="4052880" cy="3703680"/>
            <a:chOff x="4938840" y="1401840"/>
            <a:chExt cx="4052880" cy="3703680"/>
          </a:xfrm>
        </p:grpSpPr>
        <p:pic>
          <p:nvPicPr>
            <p:cNvPr id="176" name="" descr=""/>
            <p:cNvPicPr/>
            <p:nvPr/>
          </p:nvPicPr>
          <p:blipFill>
            <a:blip r:embed="rId3"/>
            <a:srcRect l="19532" t="14584" r="2344" b="7294"/>
            <a:stretch/>
          </p:blipFill>
          <p:spPr>
            <a:xfrm>
              <a:off x="4973760" y="2179800"/>
              <a:ext cx="4017960" cy="2925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7" name=""/>
            <p:cNvSpPr/>
            <p:nvPr/>
          </p:nvSpPr>
          <p:spPr>
            <a:xfrm>
              <a:off x="4938840" y="1401840"/>
              <a:ext cx="4052880" cy="1087920"/>
            </a:xfrm>
            <a:prstGeom prst="rect">
              <a:avLst/>
            </a:prstGeom>
            <a:solidFill>
              <a:srgbClr val="ff9121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Representatives of the given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Markush Structure: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725560" y="609588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AC3B7-32CB-4F4C-A3A0-B44C79F0983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593720" y="228600"/>
            <a:ext cx="775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Competitive Advantages</a:t>
            </a:r>
            <a:r>
              <a:rPr b="0" lang="en-US" sz="2200" spc="-1" strike="noStrike">
                <a:solidFill>
                  <a:srgbClr val="ffffff"/>
                </a:solidFill>
                <a:latin typeface="CG Omega"/>
              </a:rPr>
              <a:t> - </a:t>
            </a: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0" name=""/>
          <p:cNvSpPr/>
          <p:nvPr/>
        </p:nvSpPr>
        <p:spPr>
          <a:xfrm>
            <a:off x="1386000" y="1295280"/>
            <a:ext cx="7813440" cy="63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36600" indent="-336600">
              <a:spcAft>
                <a:spcPts val="275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Approx. 1.5 M reactions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 (structure-searchable;</a:t>
            </a: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 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1976 onwards)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275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Strong growth anticipated: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  ~ 500,000 reactions/year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462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1"/>
                </a:solidFill>
                <a:latin typeface="CG Omega"/>
              </a:rPr>
              <a:t>Your Benefit:   More Effective Synthesis Planning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414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Complete Reaction Descriptions</a:t>
            </a:r>
            <a:br>
              <a:rPr sz="2200"/>
            </a:b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Immediately reproduce chemistry without the need to order the patent documen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414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InfoChem ClassCodes</a:t>
            </a:r>
            <a:br>
              <a:rPr sz="2200"/>
            </a:b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Link to Similar Reactions in all other MDL Database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414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Markush Reaction Display*</a:t>
            </a:r>
            <a:br>
              <a:rPr sz="2200"/>
            </a:b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Explore the scope of patent coverage and reaction scope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825"/>
              </a:spcAft>
              <a:buClr>
                <a:srgbClr val="808080"/>
              </a:buClr>
              <a:buFont typeface="CG Omega"/>
              <a:buChar char="•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825"/>
              </a:spcAft>
              <a:buClr>
                <a:srgbClr val="99cc00"/>
              </a:buClr>
              <a:buFont typeface="Wingdings" charset="2"/>
              <a:buChar char="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1" name=""/>
          <p:cNvSpPr/>
          <p:nvPr/>
        </p:nvSpPr>
        <p:spPr>
          <a:xfrm>
            <a:off x="2725560" y="609588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573120"/>
            <a:ext cx="7620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Reaction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7C4C1-17C9-498E-BAFB-4CE675FE4770}" type="slidenum">
              <a:t>9</a:t>
            </a:fld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6:33:25Z</dcterms:created>
  <dc:creator>Eva Seip</dc:creator>
  <dc:description/>
  <dc:language>en-US</dc:language>
  <cp:lastModifiedBy>Eva Seip</cp:lastModifiedBy>
  <dcterms:modified xsi:type="dcterms:W3CDTF">2004-10-28T10:33:45Z</dcterms:modified>
  <cp:revision>269</cp:revision>
  <dc:subject>Database Pre-Release Evaluation 2004</dc:subject>
  <dc:title>Patent Chemistry Databas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91259557</vt:r8>
  </property>
  <property fmtid="{D5CDD505-2E9C-101B-9397-08002B2CF9AE}" pid="3" name="_AuthorEmail">
    <vt:lpwstr>P.McHale@mdl.com</vt:lpwstr>
  </property>
  <property fmtid="{D5CDD505-2E9C-101B-9397-08002B2CF9AE}" pid="4" name="_AuthorEmailDisplayName">
    <vt:lpwstr>Phil McHale</vt:lpwstr>
  </property>
  <property fmtid="{D5CDD505-2E9C-101B-9397-08002B2CF9AE}" pid="5" name="_EmailSubject">
    <vt:lpwstr>SKO Presentation review</vt:lpwstr>
  </property>
</Properties>
</file>