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5.png" ContentType="image/png"/>
  <Override PartName="/ppt/media/image6.wmf" ContentType="image/x-wmf"/>
  <Override PartName="/ppt/media/image36.png" ContentType="image/png"/>
  <Override PartName="/ppt/media/image37.png" ContentType="image/png"/>
  <Override PartName="/ppt/media/image3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72C583-5A5B-43BB-A6AF-75C4F0CA9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6BC649-0B21-46AE-AEE7-39222BE38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A84B0D-14EB-490E-BE0A-6746A419C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689113-6735-480F-9B62-968098F2C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0FD3E1-91A5-4140-B3EB-EC6ABF624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D2B964-6BC4-488E-B797-AF06EAC2C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E20738-A5EF-4053-940C-4130E6B80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7A9B87-C5F2-42C1-A8F3-F046E9F30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174836-F776-44E9-A12B-B7587904E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2EB0C0-270F-4CD2-ACE4-7B1A3F872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81A372-7280-4831-8FDD-1EA2349EE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554E23-3914-40AD-9954-4540F8148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D576C1-E071-4511-B289-33FFB24C9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0C9075-26F0-40C6-8001-A77B9CD3E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CBD213-CCD7-44AF-94D5-6CFF7B2E8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940407-01BB-4763-AB38-C0F0C14B3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667B12-E2DC-4544-80DD-D9075015B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E4B4FB-45D8-419A-AEA0-5C06102DC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3ADA49-53A0-4083-87C4-57AD70FA5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8EFF71-A435-4F92-900F-5C28E2889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23FC-D494-4ED2-8B64-2218E70CA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6917-4F18-4B37-96F3-3116DF438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A800-97E0-4123-BF0D-952CEB722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2AF2-BF87-4571-8F28-09155FE5A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459F-0020-466C-9680-F8A468AB5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EA12-13EF-4BEF-8708-6E86F5343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AD92-DEC7-4A87-8824-E22668BC9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2CBC-D09C-47C8-8239-25E871F4B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F3C0-A573-4282-9B8D-4EE146814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97C9-A8D7-4D7D-BFC9-562D34C98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AD46E-EE5F-4B08-901A-EF1B70988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B10D-D68D-4D19-A7FD-B098B5034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818E-A28A-4760-821C-2E03D0A90EEA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hyperlink" Target="http://www.thieme.de/chemistry/synthesis/index.html" TargetMode="External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1337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53376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 new end-user database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for more effective synthesis planning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nd better bioactivity profiling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1-Novem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9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9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9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E66B-3073-4166-8BDA-BE5F990977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9" name=""/>
          <p:cNvSpPr/>
          <p:nvPr/>
        </p:nvSpPr>
        <p:spPr>
          <a:xfrm>
            <a:off x="1386000" y="1441440"/>
            <a:ext cx="781344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Without time consuming access to original patent document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display of main Markush* structures and main Markush* Reactions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*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Referencing Compounds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-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View compounds being a representative of a Markush* structure in a patent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1" name=""/>
          <p:cNvSpPr/>
          <p:nvPr/>
        </p:nvSpPr>
        <p:spPr>
          <a:xfrm>
            <a:off x="2725560" y="630252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B887-7A94-4E83-A8DD-2FFC564EC2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7468920" y="5346720"/>
            <a:ext cx="125136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3" name=""/>
          <p:cNvSpPr/>
          <p:nvPr/>
        </p:nvSpPr>
        <p:spPr>
          <a:xfrm>
            <a:off x="2293560" y="63784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4AEF-FD6E-4B1D-8CD7-C0108295154E}" type="slidenum">
              <a:t>12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22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23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919080" y="496800"/>
            <a:ext cx="86565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5" name=""/>
          <p:cNvSpPr/>
          <p:nvPr/>
        </p:nvSpPr>
        <p:spPr>
          <a:xfrm>
            <a:off x="229356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D2F9-2832-46A7-A2DE-76FC6C537FF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23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24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87760" y="228600"/>
            <a:ext cx="862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*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4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40948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BA06-30D7-4D41-9C11-B51EB9BF63F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219320"/>
            <a:ext cx="7813800" cy="69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37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938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Similar reactions get same class code (15-digit number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ll MDL reaction db’s are classified with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ind Similar Reactions in same/other MDL databas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Grouping of similar 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2725560" y="6477120"/>
            <a:ext cx="6480720" cy="3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A54E-CEB9-4D68-9726-973C578B334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25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25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26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26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26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7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C6F6-A7F3-4BF2-8AAF-03243F74179B}" type="slidenum">
              <a:t>16</a:t>
            </a:fld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InfoChem Reaction Classification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6320" y="2201760"/>
            <a:ext cx="9143640" cy="3360600"/>
            <a:chOff x="-76320" y="2201760"/>
            <a:chExt cx="9143640" cy="3360600"/>
          </a:xfrm>
        </p:grpSpPr>
        <p:sp>
          <p:nvSpPr>
            <p:cNvPr id="280" name=""/>
            <p:cNvSpPr/>
            <p:nvPr/>
          </p:nvSpPr>
          <p:spPr>
            <a:xfrm>
              <a:off x="4114440" y="444492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Narrow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+ beta atoms 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360" y="444492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440" y="3319200"/>
              <a:ext cx="4952880" cy="11257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Medium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atoms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7360" y="3319200"/>
              <a:ext cx="399672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4440" y="220176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Broad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Only reaction center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7360" y="220176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7360" y="22017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7360" y="331920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7360" y="444492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7360" y="55623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6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440" y="2201760"/>
              <a:ext cx="0" cy="33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6732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-59760" y="2274840"/>
            <a:ext cx="4292280" cy="91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9760" y="2274840"/>
                      <a:ext cx="4292280" cy="9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-26280" y="3435120"/>
            <a:ext cx="42919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26280" y="3435120"/>
                      <a:ext cx="42919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-76320" y="4506840"/>
            <a:ext cx="4291920" cy="97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76320" y="4506840"/>
                      <a:ext cx="42919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9" name=""/>
          <p:cNvSpPr/>
          <p:nvPr/>
        </p:nvSpPr>
        <p:spPr>
          <a:xfrm>
            <a:off x="76320" y="1295280"/>
            <a:ext cx="908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All MDL reaction databases are indexed with InfoChem ClassCod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Similar Reactions have same ClassCode in different database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0" name=""/>
          <p:cNvSpPr/>
          <p:nvPr/>
        </p:nvSpPr>
        <p:spPr>
          <a:xfrm>
            <a:off x="720360" y="5791320"/>
            <a:ext cx="85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Three levels of reaction similarity: Broad, Medium, Narro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DB54-DBB6-4445-9078-F0CDAFFDEA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307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same/other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5114-80C5-4A96-BD7F-407612C5AD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143000"/>
            <a:ext cx="7467480" cy="5562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4108320" y="1644480"/>
            <a:ext cx="480708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 Reaction Display*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G Omega"/>
              </a:rPr>
              <a:t>[*available for patents published Dec 2003 onwards]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3" name=""/>
          <p:cNvSpPr/>
          <p:nvPr/>
        </p:nvSpPr>
        <p:spPr>
          <a:xfrm>
            <a:off x="1144440" y="265428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984480" y="5378400"/>
            <a:ext cx="4365360" cy="783000"/>
            <a:chOff x="3984480" y="5378400"/>
            <a:chExt cx="4365360" cy="783000"/>
          </a:xfrm>
        </p:grpSpPr>
        <p:sp>
          <p:nvSpPr>
            <p:cNvPr id="315" name=""/>
            <p:cNvSpPr/>
            <p:nvPr/>
          </p:nvSpPr>
          <p:spPr>
            <a:xfrm>
              <a:off x="5134680" y="537840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984480" y="552276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144440" y="543708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8" name=""/>
          <p:cNvSpPr/>
          <p:nvPr/>
        </p:nvSpPr>
        <p:spPr>
          <a:xfrm>
            <a:off x="1033920" y="45720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9107-FFA6-4ABD-A87D-F2B0917B6154}" type="slidenum">
              <a:t>19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the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5238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0745-A1CD-4879-B92C-ADEFF79EE922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474920"/>
            <a:ext cx="85345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Compounds rarely covered elsewhere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74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800,000 Prophetic Compounds since 1976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8037-D551-4922-8B6D-82E3917013F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322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324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bstance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7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329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332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C4EC-BE2B-4618-953E-757403A5E0C8}" type="slidenum">
              <a:t>21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1371600"/>
            <a:ext cx="825012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24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Measured numerical bioactivity data (e.g. IC50, EC50)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Toxicology &amp; metabolism data, application &amp; formulation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ata export to</a:t>
            </a:r>
            <a:r>
              <a:rPr b="1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tructure-activity-relationship table (SAR)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Many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Predefined Export Formats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efinition of own export formats and user-views possible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ubstance profiles: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A substance record accumulates data from different patents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D7AF-3991-44AC-87A6-A03988986B1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340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342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5" name=""/>
          <p:cNvSpPr/>
          <p:nvPr/>
        </p:nvSpPr>
        <p:spPr>
          <a:xfrm>
            <a:off x="1132200" y="496800"/>
            <a:ext cx="585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6" name=""/>
          <p:cNvSpPr/>
          <p:nvPr/>
        </p:nvSpPr>
        <p:spPr>
          <a:xfrm>
            <a:off x="2333160" y="645480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04C0-7171-4720-81DA-4CE98E7F95C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9960" y="546120"/>
            <a:ext cx="93286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193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100" spc="-1" strike="noStrike">
                <a:solidFill>
                  <a:srgbClr val="ff9121"/>
                </a:solidFill>
                <a:latin typeface="CG Omega"/>
              </a:rPr>
              <a:t>Export to Structure-Activity-Relationship Table</a:t>
            </a:r>
            <a:endParaRPr b="0" lang="en-US" sz="31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5E7C-FF77-465B-8B0C-B658884F367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796680" y="6019920"/>
            <a:ext cx="8613000" cy="42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accumulates data from different patent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29AF-B4E9-4E87-8EEA-639CD8243B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3429000"/>
            <a:ext cx="7315200" cy="16765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83B0-B5E9-4EA7-B672-41F47013D38D}" type="slidenum">
              <a:t>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2120" y="1878120"/>
          <a:ext cx="8692920" cy="4141800"/>
        </p:xfrm>
        <a:graphic>
          <a:graphicData uri="http://schemas.openxmlformats.org/drawingml/2006/table">
            <a:tbl>
              <a:tblPr/>
              <a:tblGrid>
                <a:gridCol w="1417680"/>
                <a:gridCol w="1933560"/>
                <a:gridCol w="293400"/>
                <a:gridCol w="1633680"/>
                <a:gridCol w="222120"/>
                <a:gridCol w="1633680"/>
                <a:gridCol w="1558800"/>
              </a:tblGrid>
              <a:tr h="5558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 related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Prou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480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io structure-searchable reac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rom ~340.000 patents since 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JSM: ~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ORE: ~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ynthesis of &gt;5,000 selected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 number taken from ~ 70,000 patents since 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imental 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 gridSpan="7">
                  <a:txBody>
                    <a:bodyPr lIns="82080" rIns="82080" tIns="41040" bIns="4104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0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laims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1373040" y="237960"/>
            <a:ext cx="769464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4000" spc="-1" strike="noStrike">
                <a:solidFill>
                  <a:srgbClr val="ff9121"/>
                </a:solidFill>
                <a:latin typeface="CG Omega"/>
              </a:rPr>
              <a:t>- Reactions</a:t>
            </a:r>
            <a:endParaRPr b="0" lang="en-US" sz="4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0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27CA-A217-4EA6-B5A3-FC9365F6AB2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1240" y="1219320"/>
          <a:ext cx="8921520" cy="5089320"/>
        </p:xfrm>
        <a:graphic>
          <a:graphicData uri="http://schemas.openxmlformats.org/drawingml/2006/table">
            <a:tbl>
              <a:tblPr/>
              <a:tblGrid>
                <a:gridCol w="1387800"/>
                <a:gridCol w="1906920"/>
                <a:gridCol w="200160"/>
                <a:gridCol w="1819440"/>
                <a:gridCol w="2080800"/>
                <a:gridCol w="278280"/>
                <a:gridCol w="1248120"/>
              </a:tblGrid>
              <a:tr h="447480"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ound related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4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“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rwent WPI / DCR in  Compound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775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 from Org.Chem. Patents since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507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lected tar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50,000 bioactive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ber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Millions) from all areas of chemistry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8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ARP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01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easured numerical Bioactivity Data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EC50,  LD50 et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pplication, formulation, spectral &amp; physical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bioactivity and dis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therapeutic groups and diseases, drug Prof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ntrolled vocabulary for compound properties, calculated and measured physical data, no numerical bioactivity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1295280" y="16200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4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AE26-759B-429A-B3F5-B830B272C5B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51055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8DFB-4E3F-454D-B871-C194F824AD6E}" type="slidenum">
              <a:t>29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86000" y="1344240"/>
            <a:ext cx="782784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0">
              <a:spcAft>
                <a:spcPts val="8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br>
              <a:rPr sz="2100"/>
            </a:b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 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300" spc="-1" strike="noStrike">
                <a:solidFill>
                  <a:srgbClr val="ff9900"/>
                </a:solidFill>
                <a:latin typeface="CG Omega"/>
              </a:rPr>
              <a:t>Integrated with other data sources on DiscoveryGate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AF44-DD8B-47B7-A748-B028D168A03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9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Database Browser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CompoundIndex (May 2005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ize and Anticipated Yearly Growth</a:t>
            </a:r>
            <a:br>
              <a:rPr sz="1900"/>
            </a:br>
            <a:r>
              <a:rPr b="1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5 Million  reactions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6 Million substances 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substance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340,000 citations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citations/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CG Omega"/>
              </a:rPr>
              <a:t>Semi-automatically indexed patents already 2 weeks after publication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 incl. front-page, claims, many reactions, compounds and physical data 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a few weeks later incl. Markush structures/ reactions and bioactivity data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91F9-9F80-4636-8E3A-A958BA178A6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762120" y="3048120"/>
            <a:ext cx="6553080" cy="1171440"/>
            <a:chOff x="762120" y="3048120"/>
            <a:chExt cx="6553080" cy="1171440"/>
          </a:xfrm>
        </p:grpSpPr>
        <p:sp>
          <p:nvSpPr>
            <p:cNvPr id="371" name=""/>
            <p:cNvSpPr/>
            <p:nvPr/>
          </p:nvSpPr>
          <p:spPr>
            <a:xfrm>
              <a:off x="762120" y="3048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120" y="38098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2160" y="3400560"/>
              <a:ext cx="1937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G Omega"/>
                </a:rPr>
                <a:t>After ~2 weeks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95480" y="3352680"/>
              <a:ext cx="4419720" cy="86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emi-automatical indexed record in db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Front-page, claims, many compounds,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many reactions, physical data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048120" y="597528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In the first year after release some manual indexed records may be delayed as final productivity has not been reached ye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23280" y="1800360"/>
            <a:ext cx="7464960" cy="1206360"/>
            <a:chOff x="323280" y="1800360"/>
            <a:chExt cx="7464960" cy="1206360"/>
          </a:xfrm>
        </p:grpSpPr>
        <p:sp>
          <p:nvSpPr>
            <p:cNvPr id="377" name=""/>
            <p:cNvSpPr/>
            <p:nvPr/>
          </p:nvSpPr>
          <p:spPr>
            <a:xfrm>
              <a:off x="323280" y="2181240"/>
              <a:ext cx="17794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7960" y="1800360"/>
              <a:ext cx="7010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960" y="1800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Update Process – Final Databas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895480" y="4191120"/>
            <a:ext cx="5959440" cy="1675440"/>
            <a:chOff x="2895480" y="4191120"/>
            <a:chExt cx="5959440" cy="1675440"/>
          </a:xfrm>
        </p:grpSpPr>
        <p:grpSp>
          <p:nvGrpSpPr>
            <p:cNvPr id="382" name=""/>
            <p:cNvGrpSpPr/>
            <p:nvPr/>
          </p:nvGrpSpPr>
          <p:grpSpPr>
            <a:xfrm>
              <a:off x="2895480" y="4639320"/>
              <a:ext cx="5959440" cy="1227240"/>
              <a:chOff x="2895480" y="4639320"/>
              <a:chExt cx="5959440" cy="1227240"/>
            </a:xfrm>
          </p:grpSpPr>
          <p:sp>
            <p:nvSpPr>
              <p:cNvPr id="383" name=""/>
              <p:cNvSpPr/>
              <p:nvPr/>
            </p:nvSpPr>
            <p:spPr>
              <a:xfrm>
                <a:off x="5181480" y="4639320"/>
                <a:ext cx="3673440" cy="1227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Manual indexed record in db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ore reactions/compound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arkush structures/reaction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Bioactivity/application data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95480" y="523332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27880" y="4753080"/>
                <a:ext cx="20307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CG Omega"/>
                  </a:rPr>
                  <a:t>Goal: ~ 2 weeks</a:t>
                </a:r>
                <a:endParaRPr b="0" lang="en-US" sz="20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895480" y="41911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4E1F-005D-40A8-B66F-53655FAB5A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8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dded Value Content by tim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9" name=""/>
          <p:cNvSpPr/>
          <p:nvPr/>
        </p:nvSpPr>
        <p:spPr>
          <a:xfrm>
            <a:off x="-159840" y="6176880"/>
            <a:ext cx="94176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lt; Dec 2003 : Selected reactions (which have data) &amp; selected substances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including prophetic compounds 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gt;= Dec 2003: All compounds/reactions with data;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selected prophetic compounds &amp; analogous reactions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0" name=""/>
          <p:cNvSpPr/>
          <p:nvPr/>
        </p:nvSpPr>
        <p:spPr>
          <a:xfrm>
            <a:off x="1752480" y="129528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1" name=""/>
          <p:cNvSpPr/>
          <p:nvPr/>
        </p:nvSpPr>
        <p:spPr>
          <a:xfrm>
            <a:off x="1755000" y="1322280"/>
            <a:ext cx="372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mi-automatic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2" name=""/>
          <p:cNvSpPr/>
          <p:nvPr/>
        </p:nvSpPr>
        <p:spPr>
          <a:xfrm>
            <a:off x="5725440" y="1322280"/>
            <a:ext cx="327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 200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nu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1219320"/>
            <a:ext cx="16765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ublication 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920" y="2133720"/>
          <a:ext cx="8839080" cy="3889080"/>
        </p:xfrm>
        <a:graphic>
          <a:graphicData uri="http://schemas.openxmlformats.org/drawingml/2006/table">
            <a:tbl>
              <a:tblPr/>
              <a:tblGrid>
                <a:gridCol w="1447200"/>
                <a:gridCol w="3963240"/>
                <a:gridCol w="3428640"/>
              </a:tblGrid>
              <a:tr h="11595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itations</a:t>
                      </a: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ibliographic Data, IPC, Title, Abstract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Claim 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Reactions*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action Scheme (structure searchable), </a:t>
                      </a: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Example Text, InfoChem Class Codes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Substances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ectral Data (Signals) &amp; Phys. Data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Prophetic Compoun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Application &amp; Formulation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Bioactivity Data (e.g. IC50)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etabolism, Toxicity (LD5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25B3-8764-4694-9DAD-189343F9FD4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1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405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406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408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8C68-8819-4A93-800B-B09E8EDFB75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CrossFire Commander 7.0 SP1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344600"/>
            <a:ext cx="91440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CG Omega"/>
              </a:rPr>
              <a:t>For CrossFire users of MDL Patent Chemistry Database is recommended: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CrossFire Commander 7.0 </a:t>
            </a:r>
            <a:r>
              <a:rPr b="1" lang="en-GB" sz="2200" spc="-1" strike="noStrike" u="sng">
                <a:solidFill>
                  <a:srgbClr val="ff9900"/>
                </a:solidFill>
                <a:uFillTx/>
                <a:latin typeface="CG Omega"/>
              </a:rPr>
              <a:t>SP1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  (=</a:t>
            </a:r>
            <a:r>
              <a:rPr b="1" lang="de-DE" sz="2200" spc="-1" strike="noStrike" u="sng">
                <a:solidFill>
                  <a:srgbClr val="ff9900"/>
                </a:solidFill>
                <a:uFillTx/>
                <a:latin typeface="CG Omega"/>
              </a:rPr>
              <a:t>“patent-enabled“</a:t>
            </a:r>
            <a:r>
              <a:rPr b="1" lang="de-DE" sz="2200" spc="-1" strike="noStrike">
                <a:solidFill>
                  <a:srgbClr val="ff9900"/>
                </a:solidFill>
                <a:latin typeface="CG Omega"/>
              </a:rPr>
              <a:t> Commander 7)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8240" y="2286000"/>
          <a:ext cx="8797680" cy="4376880"/>
        </p:xfrm>
        <a:graphic>
          <a:graphicData uri="http://schemas.openxmlformats.org/drawingml/2006/table">
            <a:tbl>
              <a:tblPr/>
              <a:tblGrid>
                <a:gridCol w="2147760"/>
                <a:gridCol w="6649920"/>
              </a:tblGrid>
              <a:tr h="139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7.0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SP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Recommended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= Standard-version Commander 7 </a:t>
                      </a: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plus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. patent-specific files</a:t>
                      </a:r>
                      <a:br>
                        <a:rPr sz="1700"/>
                      </a:b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(help files, predefined export formats, predefined user views, predefined search forms (PDS=former ED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7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Usable, but not recommended 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for MDL Patent Chemistry DB 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itional features compared to Commander 6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 sorting, Find Similar Reactions, handling of long texts, MDL Standard Look&amp;Feel similar to D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Not usable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 as the following features are mssing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/Sorting, Find Similar Reactions, Handling of long texts (clai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499F-1A75-478C-911D-1C512022B0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55627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34BA-EA89-45A7-A39B-3D936B04DB5A}" type="slidenum">
              <a:t>35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/ Group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800,000 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For patents published Dec 2003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3DD5-6F54-4BA3-8AC7-9782FCFB5F2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already 2 weeks after publication incl. front-page, claims, many compound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reactions and physical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a few weeks later incl. Markush structures, Markush reactions and bioactivity/applicatio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InfoChem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Query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 [STN Field Nam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edefin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5F9B-CB64-4ECE-B73C-5DC28F7ED14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867280"/>
            <a:ext cx="7315200" cy="6098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A7E0-8631-4965-A170-98C33BB6BED5}" type="slidenum">
              <a:t>38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371600" y="1143000"/>
            <a:ext cx="777240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37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Large cost savings</a:t>
            </a:r>
            <a:r>
              <a:rPr b="1" lang="en-GB" sz="2000" spc="-1" strike="noStrike">
                <a:solidFill>
                  <a:srgbClr val="99cc00"/>
                </a:solidFill>
                <a:latin typeface="CG Omeg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Full-text access is seldom needed as claim text,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experimental section, numerical data are given and 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mpounds are correlated to their propertie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Relevance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check of 1 patent (~15 min): 40 $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20 scientists/5 patents/week: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ff9121"/>
                </a:solidFill>
                <a:uFillTx/>
                <a:latin typeface="CG Omega"/>
                <a:ea typeface="Arial"/>
              </a:rPr>
              <a:t>160,000 $ savings/yea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G Omeg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ost-free Alert Service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lert is included in fixed fe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No additional payments for documents/search tim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50 Alerts at an official host cost a company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bout 100,000$/year</a:t>
            </a:r>
            <a:r>
              <a:rPr b="1" lang="en-GB" sz="2000" spc="-1" strike="noStrike">
                <a:solidFill>
                  <a:srgbClr val="000000"/>
                </a:solidFill>
                <a:latin typeface="CG Omeg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Fixed User Fee [“All-you-can-eat”]</a:t>
            </a:r>
            <a:br>
              <a:rPr sz="2000"/>
            </a:b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No Task Pricing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sts independent of search time and number of searches / document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8" name=""/>
          <p:cNvSpPr/>
          <p:nvPr/>
        </p:nvSpPr>
        <p:spPr>
          <a:xfrm>
            <a:off x="1013040" y="496800"/>
            <a:ext cx="6987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Value Analysis for ROI calculation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6572-2A83-4A74-BC7D-3DAFE4E61A3F}" type="slidenum">
              <a:t>39</a:t>
            </a:fld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FEF9-05E2-4220-90F4-75314348F4B9}" type="slidenum">
              <a:t>4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887400" y="2832120"/>
            <a:ext cx="729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66"/>
                </a:solidFill>
                <a:latin typeface="CG Omega"/>
              </a:rPr>
              <a:t>Many Thanks for Your Interest!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9122"/>
                </a:solidFill>
                <a:latin typeface="CG Omeg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C48B-26A0-4013-AE73-44484DB246E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350960" y="1295280"/>
            <a:ext cx="4716720" cy="5181840"/>
            <a:chOff x="4350960" y="1295280"/>
            <a:chExt cx="4716720" cy="5181840"/>
          </a:xfrm>
        </p:grpSpPr>
        <p:sp>
          <p:nvSpPr>
            <p:cNvPr id="114" name=""/>
            <p:cNvSpPr/>
            <p:nvPr/>
          </p:nvSpPr>
          <p:spPr>
            <a:xfrm>
              <a:off x="4419720" y="1295280"/>
              <a:ext cx="4647960" cy="5181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50960" y="1437120"/>
              <a:ext cx="36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CG Omega"/>
                </a:rPr>
                <a:t>DG today: 140,000 reactions from patents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97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 - 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More Effective Synthesis Planning 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446040" y="1294920"/>
            <a:ext cx="471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Make reactions from patents accessible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Many novel reactions published </a:t>
            </a:r>
            <a:r>
              <a:rPr b="0" i="1" lang="en-GB" sz="1800" spc="-1" strike="noStrike">
                <a:solidFill>
                  <a:srgbClr val="808080"/>
                </a:solidFill>
                <a:latin typeface="CG Omega"/>
              </a:rPr>
              <a:t>only</a:t>
            </a: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 in patents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Review similar reactions in 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other MDL databases (via InfoChem ClassCodes)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Better synthesis planning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777280" y="5105520"/>
            <a:ext cx="2079000" cy="1336320"/>
            <a:chOff x="5777280" y="5105520"/>
            <a:chExt cx="2079000" cy="1336320"/>
          </a:xfrm>
        </p:grpSpPr>
        <p:grpSp>
          <p:nvGrpSpPr>
            <p:cNvPr id="119" name=""/>
            <p:cNvGrpSpPr/>
            <p:nvPr/>
          </p:nvGrpSpPr>
          <p:grpSpPr>
            <a:xfrm>
              <a:off x="6039360" y="5105520"/>
              <a:ext cx="1332000" cy="622800"/>
              <a:chOff x="6039360" y="5105520"/>
              <a:chExt cx="1332000" cy="622800"/>
            </a:xfrm>
          </p:grpSpPr>
          <p:sp>
            <p:nvSpPr>
              <p:cNvPr id="120" name=""/>
              <p:cNvSpPr/>
              <p:nvPr/>
            </p:nvSpPr>
            <p:spPr>
              <a:xfrm>
                <a:off x="6039360" y="5105520"/>
                <a:ext cx="1332000" cy="622800"/>
              </a:xfrm>
              <a:prstGeom prst="flowChartMagneticDisk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graphicFrame>
            <p:nvGraphicFramePr>
              <p:cNvPr id="121" name=""/>
              <p:cNvGraphicFramePr/>
              <p:nvPr/>
            </p:nvGraphicFramePr>
            <p:xfrm>
              <a:off x="6172560" y="5347800"/>
              <a:ext cx="1065600" cy="276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2560" y="5347800"/>
                        <a:ext cx="1065600" cy="2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3" name=""/>
            <p:cNvSpPr/>
            <p:nvPr/>
          </p:nvSpPr>
          <p:spPr>
            <a:xfrm>
              <a:off x="5777280" y="5810760"/>
              <a:ext cx="207900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Patent Chemistry 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31600" y="1838160"/>
            <a:ext cx="4632840" cy="3189960"/>
            <a:chOff x="4431600" y="1838160"/>
            <a:chExt cx="4632840" cy="3189960"/>
          </a:xfrm>
        </p:grpSpPr>
        <p:grpSp>
          <p:nvGrpSpPr>
            <p:cNvPr id="125" name=""/>
            <p:cNvGrpSpPr/>
            <p:nvPr/>
          </p:nvGrpSpPr>
          <p:grpSpPr>
            <a:xfrm>
              <a:off x="5182560" y="1838160"/>
              <a:ext cx="2706840" cy="1272960"/>
              <a:chOff x="5182560" y="1838160"/>
              <a:chExt cx="2706840" cy="12729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751720" y="1838160"/>
                <a:ext cx="1333800" cy="622440"/>
                <a:chOff x="5751720" y="1838160"/>
                <a:chExt cx="1333800" cy="622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751720" y="1838160"/>
                  <a:ext cx="1333800" cy="6224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75001c"/>
                    </a:gs>
                    <a:gs pos="50000">
                      <a:srgbClr val="fe003e"/>
                    </a:gs>
                    <a:gs pos="100000">
                      <a:srgbClr val="75001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graphicFrame>
              <p:nvGraphicFramePr>
                <p:cNvPr id="128" name=""/>
                <p:cNvGraphicFramePr/>
                <p:nvPr/>
              </p:nvGraphicFramePr>
              <p:xfrm>
                <a:off x="5884920" y="2080080"/>
                <a:ext cx="1067040" cy="276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884920" y="2080080"/>
                          <a:ext cx="1067040" cy="276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0" name=""/>
              <p:cNvSpPr/>
              <p:nvPr/>
            </p:nvSpPr>
            <p:spPr>
              <a:xfrm>
                <a:off x="5182560" y="2480040"/>
                <a:ext cx="270684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Synthetic Methodology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067880" y="2827440"/>
              <a:ext cx="1996560" cy="2200680"/>
              <a:chOff x="7067880" y="2827440"/>
              <a:chExt cx="1996560" cy="22006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72160" y="28274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067880" y="4397040"/>
                <a:ext cx="199656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Major Reference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Work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1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92880" y="334188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010000" y="30848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85720" y="352620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4431600" y="2827440"/>
              <a:ext cx="2132280" cy="2029680"/>
              <a:chOff x="4431600" y="2827440"/>
              <a:chExt cx="2132280" cy="20296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4431600" y="2827440"/>
                <a:ext cx="2132280" cy="2029680"/>
                <a:chOff x="4431600" y="2827440"/>
                <a:chExt cx="2132280" cy="20296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31600" y="4500360"/>
                  <a:ext cx="2132280" cy="3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G Omega"/>
                    </a:rPr>
                    <a:t>Primary Lit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92800" y="282744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35360" y="359856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11280" y="34884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968360" y="29376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96160" y="3603960"/>
                <a:ext cx="8478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Synthesis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5413680" y="3314520"/>
                <a:ext cx="854280" cy="84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6" name=""/>
          <p:cNvSpPr/>
          <p:nvPr/>
        </p:nvSpPr>
        <p:spPr>
          <a:xfrm>
            <a:off x="-40680" y="4608360"/>
            <a:ext cx="4556880" cy="18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1.5 Million Reactions (1976 onwards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omplete Reaction Descrip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tructure searchable Reactions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cl. Reagents &amp; Solvent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foChem ClassCod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99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Reaction Display </a:t>
            </a:r>
            <a:r>
              <a:rPr b="0" lang="en-GB" sz="1600" spc="-1" strike="noStrike">
                <a:solidFill>
                  <a:srgbClr val="000066"/>
                </a:solidFill>
                <a:latin typeface="CG Omega"/>
              </a:rPr>
              <a:t>(Dec 2003-)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CC89-CD08-49DC-A705-D3F8F70663E9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82400" y="191880"/>
            <a:ext cx="776124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Patent Chemistry Database -</a:t>
            </a:r>
            <a:br>
              <a:rPr sz="2800"/>
            </a:b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Better Bioactivity Profiling / Property Data</a:t>
            </a:r>
            <a:endParaRPr b="1" lang="en-US" sz="28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522576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Include structures and data from patents, including prophetic compounds, to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velop pharmacological profil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sign combinatorial librari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lect and optimize lea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Competitor Watch 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ustry tren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481800" y="2517840"/>
            <a:ext cx="2627280" cy="1816200"/>
            <a:chOff x="6481800" y="2517840"/>
            <a:chExt cx="2627280" cy="1816200"/>
          </a:xfrm>
        </p:grpSpPr>
        <p:sp>
          <p:nvSpPr>
            <p:cNvPr id="151" name="Puzzle2"/>
            <p:cNvSpPr/>
            <p:nvPr/>
          </p:nvSpPr>
          <p:spPr>
            <a:xfrm>
              <a:off x="6481800" y="2517840"/>
              <a:ext cx="2627280" cy="1816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9560" y="3182040"/>
              <a:ext cx="1099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“ 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Chemistry”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2680" y="4419720"/>
            <a:ext cx="4154400" cy="319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 1.6 million compound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hetic Compounds (&gt;20%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Structure 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erty data       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pectral &amp; Physical Data (logP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Formulation*, Application*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74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Bioactivity* (EC/IC50)</a:t>
            </a: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                  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</a:t>
            </a:r>
            <a:r>
              <a:rPr b="0" lang="en-GB" sz="1200" spc="-1" strike="noStrike">
                <a:solidFill>
                  <a:srgbClr val="000066"/>
                </a:solidFill>
                <a:latin typeface="CG Omega"/>
              </a:rPr>
              <a:t>* Patents published Dec 2003 onwards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066680"/>
            <a:ext cx="5176440" cy="4345920"/>
            <a:chOff x="3429000" y="1066680"/>
            <a:chExt cx="5176440" cy="4345920"/>
          </a:xfrm>
        </p:grpSpPr>
        <p:grpSp>
          <p:nvGrpSpPr>
            <p:cNvPr id="155" name=""/>
            <p:cNvGrpSpPr/>
            <p:nvPr/>
          </p:nvGrpSpPr>
          <p:grpSpPr>
            <a:xfrm>
              <a:off x="3429000" y="1066680"/>
              <a:ext cx="5176440" cy="3749400"/>
              <a:chOff x="3429000" y="1066680"/>
              <a:chExt cx="5176440" cy="3749400"/>
            </a:xfrm>
          </p:grpSpPr>
          <p:sp>
            <p:nvSpPr>
              <p:cNvPr id="156" name="Puzzle2"/>
              <p:cNvSpPr/>
              <p:nvPr/>
            </p:nvSpPr>
            <p:spPr>
              <a:xfrm>
                <a:off x="3429000" y="2531880"/>
                <a:ext cx="2628000" cy="1813680"/>
              </a:xfrm>
              <a:prstGeom prst="pi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26240" y="3175920"/>
                <a:ext cx="14619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Prous, Derwent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urrent Drugs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8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9" name="Puzzle4"/>
              <p:cNvSpPr/>
              <p:nvPr/>
            </p:nvSpPr>
            <p:spPr>
              <a:xfrm>
                <a:off x="5463720" y="2495160"/>
                <a:ext cx="158328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0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74120" y="2255760"/>
                <a:ext cx="826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4344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4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5" name="Puzzle4"/>
              <p:cNvSpPr/>
              <p:nvPr/>
            </p:nvSpPr>
            <p:spPr>
              <a:xfrm>
                <a:off x="5463720" y="2495160"/>
                <a:ext cx="158472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6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5960" y="2255760"/>
                <a:ext cx="159588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rossFire 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4236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529240" y="495288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G Omega"/>
                </a:rPr>
                <a:t>DiscoveryGate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1EB6-8B47-4C8B-A721-FBCD042D906F}" type="slidenum">
              <a:t>6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5760" y="53316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 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457280"/>
            <a:ext cx="777240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62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MDL Patent Chemistry Database is the first database</a:t>
            </a:r>
            <a:br>
              <a:rPr sz="2300"/>
            </a:b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for end-users to index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62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not only reactions and compounds </a:t>
            </a:r>
            <a:r>
              <a:rPr b="0" lang="en-GB" sz="2300" spc="-1" strike="noStrike" u="sng">
                <a:solidFill>
                  <a:srgbClr val="808080"/>
                </a:solidFill>
                <a:uFillTx/>
                <a:latin typeface="CG Omega"/>
              </a:rPr>
              <a:t>with</a:t>
            </a: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 data,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ff9121"/>
                </a:solidFill>
                <a:latin typeface="CG Omega"/>
              </a:rPr>
              <a:t>but also prophetic compounds and analogous reactions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rom 28 years of Patent Chemist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omplete experimental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(example section)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or reactions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laims text with display of main Markush* structures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or easy relevance check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measured numerical bioactivity* data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3" name=""/>
          <p:cNvSpPr/>
          <p:nvPr/>
        </p:nvSpPr>
        <p:spPr>
          <a:xfrm>
            <a:off x="856440" y="5867280"/>
            <a:ext cx="8366400" cy="47484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121"/>
                </a:solidFill>
                <a:latin typeface="CG Omega"/>
              </a:rPr>
              <a:t>Reactions,</a:t>
            </a:r>
            <a:r>
              <a:rPr b="0" lang="en-US" sz="2500" spc="-1" strike="noStrike">
                <a:solidFill>
                  <a:srgbClr val="99cc00"/>
                </a:solidFill>
                <a:latin typeface="CG Omega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G Omega"/>
              </a:rPr>
              <a:t>Substances and related Data and more ...   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4" name=""/>
          <p:cNvSpPr/>
          <p:nvPr/>
        </p:nvSpPr>
        <p:spPr>
          <a:xfrm>
            <a:off x="5794560" y="54547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CG Omega"/>
              </a:rPr>
              <a:t>*From December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917F-730D-4AB9-A0D9-0ECF407DC86A}" type="slidenum">
              <a:t>7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438280"/>
            <a:ext cx="7315200" cy="9144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A54D-E784-40B1-91A1-99FBC633469B}" type="slidenum">
              <a:t>8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2193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389160" indent="-389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Japanese and German patents in discussio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urther patent countries according to customer nee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A518-4E32-4D41-813B-70BE73D0F7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2-06T10:43:55Z</dcterms:modified>
  <cp:revision>340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